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  <p:custShowLst>
    <p:custShow name="Chapter" id="0">
      <p:sldLst>
        <p:sld r:id="rId4"/>
        <p:sld r:id="rId5"/>
      </p:sldLst>
    </p:custShow>
    <p:custShow name="ELI Sect 1" id="1">
      <p:sldLst>
        <p:sld r:id="rId4"/>
        <p:sld r:id="rId5"/>
        <p:sld r:id="rId6"/>
        <p:sld r:id="rId7"/>
        <p:sld r:id="rId8"/>
        <p:sld r:id="rId9"/>
        <p:sld r:id="rId10"/>
        <p:sld r:id="rId11"/>
        <p:sld r:id="rId12"/>
        <p:sld r:id="rId13"/>
        <p:sld r:id="rId14"/>
        <p:sld r:id="rId15"/>
        <p:sld r:id="rId16"/>
      </p:sldLst>
    </p:custShow>
    <p:custShow name="ELI STP" id="2">
      <p:sldLst>
        <p:sld r:id="rId7"/>
        <p:sld r:id="rId12"/>
        <p:sld r:id="rId9"/>
        <p:sld r:id="rId13"/>
      </p:sldLst>
    </p:custShow>
    <p:custShow name="Image/Math" id="3">
      <p:sldLst>
        <p:sld r:id="rId16"/>
        <p:sld r:id="rId3"/>
      </p:sldLst>
    </p:custShow>
    <p:custShow name="Bellringers" id="4">
      <p:sldLst>
        <p:sld r:id="rId4"/>
      </p:sldLst>
    </p:custShow>
    <p:custShow name="Transparencies" id="5">
      <p:sldLst>
        <p:sld r:id="rId3"/>
      </p:sldLst>
    </p:custShow>
    <p:custShow name="Chapter menu" id="6">
      <p:sldLst>
        <p:sld r:id="rId4"/>
        <p:sld r:id="rId5"/>
        <p:sld r:id="rId6"/>
        <p:sld r:id="rId7"/>
        <p:sld r:id="rId8"/>
        <p:sld r:id="rId9"/>
        <p:sld r:id="rId10"/>
        <p:sld r:id="rId11"/>
        <p:sld r:id="rId12"/>
        <p:sld r:id="rId13"/>
        <p:sld r:id="rId14"/>
        <p:sld r:id="rId15"/>
        <p:sld r:id="rId16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8685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8685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8685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8685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8685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8685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685440"/>
            <a:ext cx="8229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685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8685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8685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9" descr="earth_sci_content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1500"/>
              </a:spcAft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-285840">
              <a:spcAft>
                <a:spcPts val="1500"/>
              </a:spcAft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2" marL="1143000" indent="-228600">
              <a:spcAft>
                <a:spcPts val="1500"/>
              </a:spcAft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3" marL="1600200" indent="-228600">
              <a:spcAft>
                <a:spcPts val="15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4" marL="2057400" indent="-228600">
              <a:spcAft>
                <a:spcPts val="1500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5" marL="2057400" indent="-228600">
              <a:spcAft>
                <a:spcPts val="1500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6" marL="2057400" indent="-228600">
              <a:spcAft>
                <a:spcPts val="1500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Text Box 5"/>
          <p:cNvSpPr/>
          <p:nvPr/>
        </p:nvSpPr>
        <p:spPr>
          <a:xfrm>
            <a:off x="228600" y="5724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6"/>
          <p:cNvSpPr/>
          <p:nvPr/>
        </p:nvSpPr>
        <p:spPr>
          <a:xfrm>
            <a:off x="72388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tion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>
            <a:hlinkClick r:id="" action="ppaction://hlinkshowjump?jump=previousslide"/>
          </p:cNvPr>
          <p:cNvSpPr/>
          <p:nvPr/>
        </p:nvSpPr>
        <p:spPr>
          <a:xfrm>
            <a:off x="4724280" y="6095880"/>
            <a:ext cx="9907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>
            <a:hlinkClick r:id="" action="ppaction://hlinkshowjump?jump=nextslide"/>
          </p:cNvPr>
          <p:cNvSpPr/>
          <p:nvPr/>
        </p:nvSpPr>
        <p:spPr>
          <a:xfrm>
            <a:off x="5715000" y="6095880"/>
            <a:ext cx="10666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>
            <a:hlinkClick r:id="" action="ppaction://hlinkshowjump?jump=endshow"/>
          </p:cNvPr>
          <p:cNvSpPr/>
          <p:nvPr/>
        </p:nvSpPr>
        <p:spPr>
          <a:xfrm>
            <a:off x="6781680" y="6095880"/>
            <a:ext cx="11430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0">
            <a:hlinkClick r:id="" action="ppaction://hlinkshowjump?jump=endshow"/>
          </p:cNvPr>
          <p:cNvSpPr/>
          <p:nvPr/>
        </p:nvSpPr>
        <p:spPr>
          <a:xfrm>
            <a:off x="8039160" y="60958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15">
            <a:hlinkClick r:id="" action="ppaction://hlinkshowjump?jump=previousslide"/>
          </p:cNvPr>
          <p:cNvSpPr/>
          <p:nvPr/>
        </p:nvSpPr>
        <p:spPr>
          <a:xfrm>
            <a:off x="4829040" y="6172200"/>
            <a:ext cx="7826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16">
            <a:hlinkClick r:id="" action="ppaction://hlinkshowjump?jump=nextslide"/>
          </p:cNvPr>
          <p:cNvSpPr/>
          <p:nvPr/>
        </p:nvSpPr>
        <p:spPr>
          <a:xfrm>
            <a:off x="5838840" y="6172200"/>
            <a:ext cx="8096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17">
            <a:hlinkClick r:id="" action="ppaction://hlinkshowjump?jump=firstslide"/>
          </p:cNvPr>
          <p:cNvSpPr/>
          <p:nvPr/>
        </p:nvSpPr>
        <p:spPr>
          <a:xfrm>
            <a:off x="6886440" y="6172200"/>
            <a:ext cx="98280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Rectangle 18">
            <a:hlinkClick r:id="" action="ppaction://hlinkshowjump?jump=endshow"/>
          </p:cNvPr>
          <p:cNvSpPr/>
          <p:nvPr/>
        </p:nvSpPr>
        <p:spPr>
          <a:xfrm>
            <a:off x="8048520" y="6172200"/>
            <a:ext cx="8492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28760" y="14983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Preview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Objectives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Air Masses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How Air Moves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ormation of Air Masses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Types of Air Masses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North American Air Mass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ir Masses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455760" y="684360"/>
            <a:ext cx="822960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Section 1: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r Ma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79796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North American Air Mass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28760" y="14983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four types of air masses that affect the weather of North America come from six regions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air mass usually brings the weather of its source region, but an air mass may change as it moves away from its source region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example, cold, dry air may become warm and more moist as it moves from land to the warm ocean. 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79796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North American Air Mass,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28760" y="14983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Tropical Air Mass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inental tropical air masses form over *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air masses bring dry, hot weather in the summer. They do not form in the winter. 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ritime tropical air masses *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ritime tropical air masses also form over 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79796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North American Air Mass,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28760" y="14983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Polar Air Masses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lar air masses from three regions—northern Canada and the northern Pacific and Atlantic Oceans—influence weather in North America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summer, the air masses usually bring *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winter, they bring *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79796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North American Air Mass,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28760" y="14983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Polar Air Masses, </a:t>
            </a: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ritime polar air masses *, but they are not as cold as *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winter, these maritime polar Pacific air masses bring rain and snow to the Pacific Coast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summer, they bring cool, often foggy weather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79796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North American Air Mass,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28760" y="14983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Polar Air Masses, </a:t>
            </a: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ritime polar Atlantic air masses move generally eastward toward Europe. But they sometimes move westward over New England and eastern Canada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winter, they can bring *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summer, these air masses can produce *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Objectives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28760" y="14983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Expla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an air mass forms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Li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four main types of air masses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escrib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air masses affect the weather of North America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Air Masses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28760" y="14983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fferences in air pressure are caused by *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region along the equator receives more solar energy than the regions at the poles do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versely, cold air near the pole sinks and creates high-pressure centers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fferences in air pressure at different locations on Earth create *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79796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How Air Moves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28760" y="14983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ir moves from areas of high pressure to areas of low pressure. Therefore, there is a general, worldwide movement *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mperature and pressure differences on Earth’s surface create three wind belts in the Northern Hemisphere and three wind belts in the Southern Hemisphere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oriolis eff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which occurs when winds are deflected by Earth’s rotation, also influences wind patterns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79796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Formation of Air Masses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28760" y="14983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ir ma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*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air pressure differences are small, air remains relatively stationary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air remains stationary or moves slowly over a uniform region, the air takes on characteristic temperature and humidity of that region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ir masses that form over frozen polar regions are very cold and dry. Air masses that form over tropical oceans are warm and moist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79796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ypes of Air Masses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28400" y="1498320"/>
            <a:ext cx="7824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1375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ir masses are classified according to their source regions.</a:t>
            </a:r>
            <a:endParaRPr b="0" lang="en-US" sz="22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375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e source regions for cold air masses are polar areas. The source regions for warm air masses are tropical areas. </a:t>
            </a:r>
            <a:endParaRPr b="0" lang="en-US" sz="22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375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ir masses that form over the ocean are called </a:t>
            </a: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. Air masses that form over land are called </a:t>
            </a: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*. </a:t>
            </a:r>
            <a:endParaRPr b="0" lang="en-US" sz="22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375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e combination of tropical or polar air and continental or maritime air results in air masses that have distinct characteristics.</a:t>
            </a:r>
            <a:endParaRPr b="0" lang="en-US" sz="2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79796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ypes of Air Masses,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28760" y="14983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ontinental Air Masses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 are two types of continental air masses: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ontinental polar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cP) and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ontinental tropical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cT)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inental polar air masses are *. Continental tropical air masses are *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air mass may remain over its source region for days or weeks. However, the air mass will eventually move into other regions because of global wind patterns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79796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ypes of Air Masses,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28760" y="14983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Maritime Air Masses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these very moist masses of air travel to a new location, they commonly bring more precipitation and fog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two different maritime air masses are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ritime polar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mP)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maritime tropical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mT)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ritime polar air masses are *. Maritime tropical air masses are *. 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ypes of Air Masses,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28760" y="14983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diagram below shows the four types of air mass that influence North America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67" name="Picture 8" descr="Untitled-2 copy"/>
          <p:cNvPicPr/>
          <p:nvPr/>
        </p:nvPicPr>
        <p:blipFill>
          <a:blip r:embed="rId1"/>
          <a:stretch/>
        </p:blipFill>
        <p:spPr>
          <a:xfrm>
            <a:off x="1841400" y="2247840"/>
            <a:ext cx="5486400" cy="3733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ait Rocksund</dc:creator>
  <dc:description/>
  <dc:language>en-US</dc:language>
  <cp:lastModifiedBy>trocksund</cp:lastModifiedBy>
  <cp:lastPrinted>2004-02-20T14:12:55Z</cp:lastPrinted>
  <dcterms:modified xsi:type="dcterms:W3CDTF">2014-04-28T15:27:19Z</dcterms:modified>
  <cp:revision>629</cp:revision>
  <dc:subject/>
  <dc:title>No Slide Title</dc:title>
</cp:coreProperties>
</file>